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74D-609F-452F-8998-F33DF558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10F-3748-41F3-AECB-186ACE30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A45-F3D7-423D-8BEB-8AE5A249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C0F-8352-49D8-90F9-91331CB1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FBF-02B2-40C9-BC32-51868A97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FFF-360D-4A22-81BF-5FD2DD0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D61-9D41-4DED-870C-BC93ED8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412-0ED2-4C34-9FE6-13DFF82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425-0B79-460C-86BF-2B099C4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C01-130A-4FCB-ABF8-441A2BF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52F-8B46-42AB-9F93-C5FA15D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CF7-3CF8-4C48-8D50-BCE9EF0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848-6E20-49DC-B859-52C35684B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960" y="200160"/>
            <a:ext cx="834408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7080" y="538200"/>
            <a:ext cx="76298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040" y="385920"/>
            <a:ext cx="81439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720" y="347760"/>
            <a:ext cx="748656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1:06:23Z</dcterms:created>
  <dc:creator>ASD</dc:creator>
  <dc:description/>
  <dc:language>en-US</dc:language>
  <cp:lastModifiedBy>ASD</cp:lastModifiedBy>
  <dcterms:modified xsi:type="dcterms:W3CDTF">2010-06-15T21:06:41Z</dcterms:modified>
  <cp:revision>1</cp:revision>
  <dc:subject/>
  <dc:title>Slide 1</dc:title>
</cp:coreProperties>
</file>